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AE7-5620-4A93-8ED0-4F447E45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93D-291A-4B26-9924-16C964E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8A6-0AB5-4855-BFA6-ED6C97FA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557-6604-4EF2-867B-48E9B38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48A-94C9-4B52-8808-B3719715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57F-A9D7-4F9A-9177-94500D0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CE5-4D53-4885-B879-315267AE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940-F454-4362-823A-8B5089E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48C-4C2F-43AF-84E1-17744093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645-80BD-4B09-8050-3562BA2C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A6C-1CAB-44D7-AFAC-28A2360A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9D0-0191-4D4E-BB77-71E12B6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918-6C03-4497-AE22-7A7827E0A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8120" y="0"/>
            <a:ext cx="68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11592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C1blood scores – ANOVA diagnostic p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65320" y="0"/>
            <a:ext cx="6810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260280"/>
            <a:ext cx="29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C1blood scores – Tukeys Test: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65320" y="0"/>
            <a:ext cx="6810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8000" y="11592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C2blood scores – ANOVA diagnostic p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0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260280"/>
            <a:ext cx="29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C2blood scores – Tukeys Test: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4:31:24Z</dcterms:created>
  <dc:creator>megan_tie</dc:creator>
  <dc:description/>
  <dc:language>en-US</dc:language>
  <cp:lastModifiedBy>megan_tie</cp:lastModifiedBy>
  <dcterms:modified xsi:type="dcterms:W3CDTF">2007-10-24T04:31:48Z</dcterms:modified>
  <cp:revision>1</cp:revision>
  <dc:subject/>
  <dc:title>Slide 1</dc:title>
</cp:coreProperties>
</file>