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FC94-628D-44AB-B3BE-7192E240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FFD4-FFA2-4D9C-9809-1884ACA5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3F28-AD3D-4F80-AAD2-E07F0AF7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2635-2B58-411F-B1E1-113B0F1D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5B3C-43BF-49DB-89CD-5F2D9ABF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12E5-E560-4F2A-BA91-57CA5A13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442-D002-44FD-8892-2E944880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01F2-1349-47DA-B0A8-BF1DBD4F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396A-ECFD-4F76-AE43-2FB32299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3D63-868F-4224-B044-D564A565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E8BA-19C1-4D0D-8503-5335E0E8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4B3C-3AE5-48EF-876F-846F307D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E4D2-8292-423B-8ED1-DC08EDE9D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92360" y="1120680"/>
            <a:ext cx="5616000" cy="4253040"/>
            <a:chOff x="1692360" y="1120680"/>
            <a:chExt cx="5616000" cy="4253040"/>
          </a:xfrm>
        </p:grpSpPr>
        <p:graphicFrame>
          <p:nvGraphicFramePr>
            <p:cNvPr id="42" name=""/>
            <p:cNvGraphicFramePr/>
            <p:nvPr/>
          </p:nvGraphicFramePr>
          <p:xfrm>
            <a:off x="1692360" y="1120680"/>
            <a:ext cx="5616000" cy="4253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92360" y="1120680"/>
                      <a:ext cx="5616000" cy="425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" name=""/>
            <p:cNvSpPr/>
            <p:nvPr/>
          </p:nvSpPr>
          <p:spPr>
            <a:xfrm>
              <a:off x="4331520" y="1339200"/>
              <a:ext cx="104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δ</a:t>
              </a:r>
              <a:r>
                <a:rPr b="1" lang="en-AU" sz="1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r>
                <a:rPr b="1" lang="en-AU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 (‰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16200000">
              <a:off x="1390680" y="3448080"/>
              <a:ext cx="100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2661480" y="1125000"/>
              <a:ext cx="4429440" cy="215640"/>
              <a:chOff x="2661480" y="1125000"/>
              <a:chExt cx="4429440" cy="215640"/>
            </a:xfrm>
          </p:grpSpPr>
          <p:sp>
            <p:nvSpPr>
              <p:cNvPr id="47" name=""/>
              <p:cNvSpPr/>
              <p:nvPr/>
            </p:nvSpPr>
            <p:spPr>
              <a:xfrm>
                <a:off x="2661480" y="1125000"/>
                <a:ext cx="4429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Onshore                                                                                                            Offsho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458160" y="1239120"/>
                <a:ext cx="2833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6329160" y="2221200"/>
              <a:ext cx="26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98280" y="3067560"/>
              <a:ext cx="26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71480" y="3868560"/>
              <a:ext cx="26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739760" y="4687920"/>
              <a:ext cx="266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50920" y="189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gure 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7:04:18Z</dcterms:created>
  <dc:creator>megan_tie</dc:creator>
  <dc:description/>
  <dc:language>en-US</dc:language>
  <cp:lastModifiedBy>megan_tie</cp:lastModifiedBy>
  <dcterms:modified xsi:type="dcterms:W3CDTF">2008-07-17T07:47:18Z</dcterms:modified>
  <cp:revision>13</cp:revision>
  <dc:subject/>
  <dc:title>Slide 1</dc:title>
</cp:coreProperties>
</file>