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6A77-675C-4950-BD13-CD6C5AE8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5A64-BA1E-481E-A9D2-79D8E3C3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54B2-5B00-4719-AA75-3B8B677B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5E2B-913C-4D3D-9A6D-DA8EBD53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D3AA-FDB6-4197-AECA-6A764638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97B-2B30-4F1F-B9DA-C082066F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282A-9BF0-47A2-88AA-4DEBD186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E87F-AAA7-40A3-AF4E-43F9B12B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6331-BE0E-4BE3-AD27-B1393AC4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A27B-86B9-4101-A0DA-75041727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7098-DF4A-42A2-905C-D430285F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BC6F-813C-4042-AC34-E7A186E6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1BBF-71DA-4A3D-95FC-583B6F6B5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065320" y="1062000"/>
            <a:ext cx="3777840" cy="3567240"/>
            <a:chOff x="2065320" y="1062000"/>
            <a:chExt cx="3777840" cy="3567240"/>
          </a:xfrm>
        </p:grpSpPr>
        <p:graphicFrame>
          <p:nvGraphicFramePr>
            <p:cNvPr id="42" name=""/>
            <p:cNvGraphicFramePr/>
            <p:nvPr/>
          </p:nvGraphicFramePr>
          <p:xfrm>
            <a:off x="2065320" y="1062000"/>
            <a:ext cx="3754440" cy="356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65320" y="1062000"/>
                      <a:ext cx="3754440" cy="356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" name=""/>
            <p:cNvSpPr/>
            <p:nvPr/>
          </p:nvSpPr>
          <p:spPr>
            <a:xfrm>
              <a:off x="2846160" y="2667240"/>
              <a:ext cx="1620000" cy="1218600"/>
            </a:xfrm>
            <a:custGeom>
              <a:avLst/>
              <a:gdLst/>
              <a:ahLst/>
              <a:rect l="l" t="t" r="r" b="b"/>
              <a:pathLst>
                <a:path w="1363" h="1019">
                  <a:moveTo>
                    <a:pt x="175" y="46"/>
                  </a:moveTo>
                  <a:cubicBezTo>
                    <a:pt x="350" y="0"/>
                    <a:pt x="1321" y="497"/>
                    <a:pt x="1340" y="643"/>
                  </a:cubicBezTo>
                  <a:cubicBezTo>
                    <a:pt x="1363" y="794"/>
                    <a:pt x="481" y="1019"/>
                    <a:pt x="287" y="920"/>
                  </a:cubicBezTo>
                  <a:cubicBezTo>
                    <a:pt x="93" y="821"/>
                    <a:pt x="0" y="92"/>
                    <a:pt x="175" y="4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245400" y="1687320"/>
              <a:ext cx="2287440" cy="1712880"/>
            </a:xfrm>
            <a:custGeom>
              <a:avLst/>
              <a:gdLst/>
              <a:ahLst/>
              <a:rect l="l" t="t" r="r" b="b"/>
              <a:pathLst>
                <a:path w="1925" h="1432">
                  <a:moveTo>
                    <a:pt x="984" y="138"/>
                  </a:moveTo>
                  <a:cubicBezTo>
                    <a:pt x="1265" y="0"/>
                    <a:pt x="1594" y="127"/>
                    <a:pt x="1724" y="227"/>
                  </a:cubicBezTo>
                  <a:cubicBezTo>
                    <a:pt x="1854" y="327"/>
                    <a:pt x="1925" y="549"/>
                    <a:pt x="1765" y="741"/>
                  </a:cubicBezTo>
                  <a:cubicBezTo>
                    <a:pt x="1605" y="933"/>
                    <a:pt x="1052" y="1326"/>
                    <a:pt x="764" y="1379"/>
                  </a:cubicBezTo>
                  <a:cubicBezTo>
                    <a:pt x="476" y="1432"/>
                    <a:pt x="0" y="1264"/>
                    <a:pt x="37" y="1057"/>
                  </a:cubicBezTo>
                  <a:cubicBezTo>
                    <a:pt x="74" y="850"/>
                    <a:pt x="703" y="276"/>
                    <a:pt x="984" y="13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88640" y="2023920"/>
              <a:ext cx="1555200" cy="728280"/>
            </a:xfrm>
            <a:custGeom>
              <a:avLst/>
              <a:gdLst/>
              <a:ahLst/>
              <a:rect l="l" t="t" r="r" b="b"/>
              <a:pathLst>
                <a:path w="1309" h="609">
                  <a:moveTo>
                    <a:pt x="241" y="29"/>
                  </a:moveTo>
                  <a:cubicBezTo>
                    <a:pt x="431" y="0"/>
                    <a:pt x="1025" y="85"/>
                    <a:pt x="1167" y="152"/>
                  </a:cubicBezTo>
                  <a:cubicBezTo>
                    <a:pt x="1309" y="219"/>
                    <a:pt x="1222" y="360"/>
                    <a:pt x="1092" y="433"/>
                  </a:cubicBezTo>
                  <a:cubicBezTo>
                    <a:pt x="962" y="506"/>
                    <a:pt x="563" y="609"/>
                    <a:pt x="385" y="591"/>
                  </a:cubicBezTo>
                  <a:cubicBezTo>
                    <a:pt x="207" y="573"/>
                    <a:pt x="48" y="418"/>
                    <a:pt x="24" y="324"/>
                  </a:cubicBezTo>
                  <a:cubicBezTo>
                    <a:pt x="0" y="230"/>
                    <a:pt x="41" y="47"/>
                    <a:pt x="241" y="29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59560" y="1691280"/>
              <a:ext cx="1955880" cy="965160"/>
            </a:xfrm>
            <a:custGeom>
              <a:avLst/>
              <a:gdLst/>
              <a:ahLst/>
              <a:rect l="l" t="t" r="r" b="b"/>
              <a:pathLst>
                <a:path w="1646" h="807">
                  <a:moveTo>
                    <a:pt x="243" y="800"/>
                  </a:moveTo>
                  <a:cubicBezTo>
                    <a:pt x="486" y="793"/>
                    <a:pt x="1392" y="681"/>
                    <a:pt x="1519" y="560"/>
                  </a:cubicBezTo>
                  <a:cubicBezTo>
                    <a:pt x="1646" y="439"/>
                    <a:pt x="1211" y="148"/>
                    <a:pt x="1004" y="74"/>
                  </a:cubicBezTo>
                  <a:cubicBezTo>
                    <a:pt x="797" y="0"/>
                    <a:pt x="434" y="27"/>
                    <a:pt x="277" y="115"/>
                  </a:cubicBezTo>
                  <a:cubicBezTo>
                    <a:pt x="120" y="203"/>
                    <a:pt x="64" y="488"/>
                    <a:pt x="58" y="602"/>
                  </a:cubicBezTo>
                  <a:cubicBezTo>
                    <a:pt x="52" y="716"/>
                    <a:pt x="0" y="807"/>
                    <a:pt x="243" y="80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03080" y="2608560"/>
              <a:ext cx="640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000000"/>
                  </a:solidFill>
                  <a:latin typeface="Arial"/>
                </a:rPr>
                <a:t>Arriv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49640" y="1630080"/>
              <a:ext cx="792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000000"/>
                  </a:solidFill>
                  <a:latin typeface="Arial"/>
                </a:rPr>
                <a:t>Crèch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52760" y="1966320"/>
              <a:ext cx="66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000000"/>
                  </a:solidFill>
                  <a:latin typeface="Arial"/>
                </a:rPr>
                <a:t>Guar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60800" y="3615840"/>
              <a:ext cx="792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000000"/>
                  </a:solidFill>
                  <a:latin typeface="Arial"/>
                </a:rPr>
                <a:t>Incub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79280" y="2602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gure 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2168640" y="1073160"/>
            <a:ext cx="4808520" cy="4711680"/>
            <a:chOff x="2168640" y="1073160"/>
            <a:chExt cx="4808520" cy="4711680"/>
          </a:xfrm>
        </p:grpSpPr>
        <p:graphicFrame>
          <p:nvGraphicFramePr>
            <p:cNvPr id="54" name=""/>
            <p:cNvGraphicFramePr/>
            <p:nvPr/>
          </p:nvGraphicFramePr>
          <p:xfrm>
            <a:off x="2168640" y="1073160"/>
            <a:ext cx="4808520" cy="471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68640" y="1073160"/>
                      <a:ext cx="4808520" cy="471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"/>
            <p:cNvSpPr/>
            <p:nvPr/>
          </p:nvSpPr>
          <p:spPr>
            <a:xfrm>
              <a:off x="3267000" y="1415880"/>
              <a:ext cx="2003400" cy="2921040"/>
            </a:xfrm>
            <a:custGeom>
              <a:avLst/>
              <a:gdLst/>
              <a:ahLst/>
              <a:rect l="l" t="t" r="r" b="b"/>
              <a:pathLst>
                <a:path w="1262" h="1840">
                  <a:moveTo>
                    <a:pt x="20" y="671"/>
                  </a:moveTo>
                  <a:cubicBezTo>
                    <a:pt x="40" y="500"/>
                    <a:pt x="134" y="164"/>
                    <a:pt x="246" y="82"/>
                  </a:cubicBezTo>
                  <a:cubicBezTo>
                    <a:pt x="358" y="0"/>
                    <a:pt x="532" y="132"/>
                    <a:pt x="692" y="178"/>
                  </a:cubicBezTo>
                  <a:cubicBezTo>
                    <a:pt x="852" y="224"/>
                    <a:pt x="1150" y="110"/>
                    <a:pt x="1206" y="356"/>
                  </a:cubicBezTo>
                  <a:cubicBezTo>
                    <a:pt x="1262" y="602"/>
                    <a:pt x="1154" y="1464"/>
                    <a:pt x="1028" y="1652"/>
                  </a:cubicBezTo>
                  <a:cubicBezTo>
                    <a:pt x="902" y="1840"/>
                    <a:pt x="602" y="1577"/>
                    <a:pt x="452" y="1487"/>
                  </a:cubicBezTo>
                  <a:cubicBezTo>
                    <a:pt x="302" y="1397"/>
                    <a:pt x="201" y="1246"/>
                    <a:pt x="129" y="1110"/>
                  </a:cubicBezTo>
                  <a:cubicBezTo>
                    <a:pt x="57" y="974"/>
                    <a:pt x="0" y="842"/>
                    <a:pt x="20" y="67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19440" y="1231920"/>
              <a:ext cx="1627200" cy="2881440"/>
            </a:xfrm>
            <a:custGeom>
              <a:avLst/>
              <a:gdLst/>
              <a:ahLst/>
              <a:rect l="l" t="t" r="r" b="b"/>
              <a:pathLst>
                <a:path w="1025" h="1815">
                  <a:moveTo>
                    <a:pt x="314" y="191"/>
                  </a:moveTo>
                  <a:cubicBezTo>
                    <a:pt x="416" y="0"/>
                    <a:pt x="604" y="257"/>
                    <a:pt x="691" y="280"/>
                  </a:cubicBezTo>
                  <a:cubicBezTo>
                    <a:pt x="778" y="303"/>
                    <a:pt x="795" y="320"/>
                    <a:pt x="835" y="328"/>
                  </a:cubicBezTo>
                  <a:cubicBezTo>
                    <a:pt x="875" y="336"/>
                    <a:pt x="904" y="273"/>
                    <a:pt x="931" y="328"/>
                  </a:cubicBezTo>
                  <a:cubicBezTo>
                    <a:pt x="958" y="383"/>
                    <a:pt x="1025" y="431"/>
                    <a:pt x="1000" y="657"/>
                  </a:cubicBezTo>
                  <a:cubicBezTo>
                    <a:pt x="975" y="883"/>
                    <a:pt x="934" y="1557"/>
                    <a:pt x="780" y="1686"/>
                  </a:cubicBezTo>
                  <a:cubicBezTo>
                    <a:pt x="626" y="1815"/>
                    <a:pt x="156" y="1678"/>
                    <a:pt x="78" y="1429"/>
                  </a:cubicBezTo>
                  <a:cubicBezTo>
                    <a:pt x="0" y="1180"/>
                    <a:pt x="149" y="393"/>
                    <a:pt x="314" y="19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81320" y="142416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867280" y="3645000"/>
              <a:ext cx="505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79280" y="2602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gure 5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2103480" y="1146240"/>
            <a:ext cx="4938840" cy="4565520"/>
            <a:chOff x="2103480" y="1146240"/>
            <a:chExt cx="4938840" cy="4565520"/>
          </a:xfrm>
        </p:grpSpPr>
        <p:graphicFrame>
          <p:nvGraphicFramePr>
            <p:cNvPr id="62" name=""/>
            <p:cNvGraphicFramePr/>
            <p:nvPr/>
          </p:nvGraphicFramePr>
          <p:xfrm>
            <a:off x="2103480" y="1146240"/>
            <a:ext cx="4938840" cy="4565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03480" y="1146240"/>
                      <a:ext cx="4938840" cy="456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"/>
            <p:cNvSpPr/>
            <p:nvPr/>
          </p:nvSpPr>
          <p:spPr>
            <a:xfrm>
              <a:off x="3983040" y="1509840"/>
              <a:ext cx="2416320" cy="1425600"/>
            </a:xfrm>
            <a:custGeom>
              <a:avLst/>
              <a:gdLst/>
              <a:ahLst/>
              <a:rect l="l" t="t" r="r" b="b"/>
              <a:pathLst>
                <a:path w="1522" h="898">
                  <a:moveTo>
                    <a:pt x="371" y="345"/>
                  </a:moveTo>
                  <a:cubicBezTo>
                    <a:pt x="469" y="250"/>
                    <a:pt x="442" y="18"/>
                    <a:pt x="611" y="9"/>
                  </a:cubicBezTo>
                  <a:cubicBezTo>
                    <a:pt x="780" y="0"/>
                    <a:pt x="1250" y="201"/>
                    <a:pt x="1386" y="290"/>
                  </a:cubicBezTo>
                  <a:cubicBezTo>
                    <a:pt x="1522" y="379"/>
                    <a:pt x="1449" y="449"/>
                    <a:pt x="1427" y="544"/>
                  </a:cubicBezTo>
                  <a:cubicBezTo>
                    <a:pt x="1405" y="639"/>
                    <a:pt x="1452" y="820"/>
                    <a:pt x="1256" y="859"/>
                  </a:cubicBezTo>
                  <a:cubicBezTo>
                    <a:pt x="1060" y="898"/>
                    <a:pt x="454" y="824"/>
                    <a:pt x="248" y="777"/>
                  </a:cubicBezTo>
                  <a:cubicBezTo>
                    <a:pt x="42" y="730"/>
                    <a:pt x="0" y="650"/>
                    <a:pt x="21" y="578"/>
                  </a:cubicBezTo>
                  <a:cubicBezTo>
                    <a:pt x="42" y="506"/>
                    <a:pt x="275" y="451"/>
                    <a:pt x="371" y="345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28840" y="2698920"/>
              <a:ext cx="3648240" cy="2149200"/>
            </a:xfrm>
            <a:custGeom>
              <a:avLst/>
              <a:gdLst/>
              <a:ahLst/>
              <a:rect l="l" t="t" r="r" b="b"/>
              <a:pathLst>
                <a:path w="2298" h="1354">
                  <a:moveTo>
                    <a:pt x="222" y="220"/>
                  </a:moveTo>
                  <a:cubicBezTo>
                    <a:pt x="143" y="294"/>
                    <a:pt x="70" y="306"/>
                    <a:pt x="85" y="460"/>
                  </a:cubicBezTo>
                  <a:cubicBezTo>
                    <a:pt x="100" y="614"/>
                    <a:pt x="0" y="1017"/>
                    <a:pt x="311" y="1146"/>
                  </a:cubicBezTo>
                  <a:cubicBezTo>
                    <a:pt x="622" y="1275"/>
                    <a:pt x="1657" y="1354"/>
                    <a:pt x="1950" y="1235"/>
                  </a:cubicBezTo>
                  <a:cubicBezTo>
                    <a:pt x="2243" y="1116"/>
                    <a:pt x="2298" y="633"/>
                    <a:pt x="2067" y="433"/>
                  </a:cubicBezTo>
                  <a:cubicBezTo>
                    <a:pt x="1836" y="233"/>
                    <a:pt x="872" y="70"/>
                    <a:pt x="565" y="35"/>
                  </a:cubicBezTo>
                  <a:cubicBezTo>
                    <a:pt x="258" y="0"/>
                    <a:pt x="294" y="182"/>
                    <a:pt x="222" y="22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18040" y="1700280"/>
              <a:ext cx="647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000000"/>
                  </a:solidFill>
                  <a:latin typeface="Arial"/>
                </a:rPr>
                <a:t>Adul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4518000"/>
              <a:ext cx="647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000000"/>
                  </a:solidFill>
                  <a:latin typeface="Arial"/>
                </a:rPr>
                <a:t>Chick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79280" y="2602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gure 5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2065320" y="1062000"/>
            <a:ext cx="3813120" cy="3567240"/>
            <a:chOff x="2065320" y="1062000"/>
            <a:chExt cx="3813120" cy="3567240"/>
          </a:xfrm>
        </p:grpSpPr>
        <p:graphicFrame>
          <p:nvGraphicFramePr>
            <p:cNvPr id="70" name=""/>
            <p:cNvGraphicFramePr/>
            <p:nvPr/>
          </p:nvGraphicFramePr>
          <p:xfrm>
            <a:off x="2065320" y="1062000"/>
            <a:ext cx="3778200" cy="356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65320" y="1062000"/>
                      <a:ext cx="3778200" cy="356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>
              <a:off x="2851200" y="2666880"/>
              <a:ext cx="1630440" cy="1219320"/>
            </a:xfrm>
            <a:custGeom>
              <a:avLst/>
              <a:gdLst/>
              <a:ahLst/>
              <a:rect l="l" t="t" r="r" b="b"/>
              <a:pathLst>
                <a:path w="1363" h="1019">
                  <a:moveTo>
                    <a:pt x="175" y="46"/>
                  </a:moveTo>
                  <a:cubicBezTo>
                    <a:pt x="350" y="0"/>
                    <a:pt x="1321" y="497"/>
                    <a:pt x="1340" y="643"/>
                  </a:cubicBezTo>
                  <a:cubicBezTo>
                    <a:pt x="1363" y="794"/>
                    <a:pt x="481" y="1019"/>
                    <a:pt x="287" y="920"/>
                  </a:cubicBezTo>
                  <a:cubicBezTo>
                    <a:pt x="93" y="821"/>
                    <a:pt x="0" y="92"/>
                    <a:pt x="175" y="4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52960" y="1687680"/>
              <a:ext cx="2301840" cy="1712880"/>
            </a:xfrm>
            <a:custGeom>
              <a:avLst/>
              <a:gdLst/>
              <a:ahLst/>
              <a:rect l="l" t="t" r="r" b="b"/>
              <a:pathLst>
                <a:path w="1925" h="1432">
                  <a:moveTo>
                    <a:pt x="984" y="138"/>
                  </a:moveTo>
                  <a:cubicBezTo>
                    <a:pt x="1265" y="0"/>
                    <a:pt x="1594" y="127"/>
                    <a:pt x="1724" y="227"/>
                  </a:cubicBezTo>
                  <a:cubicBezTo>
                    <a:pt x="1854" y="327"/>
                    <a:pt x="1925" y="549"/>
                    <a:pt x="1765" y="741"/>
                  </a:cubicBezTo>
                  <a:cubicBezTo>
                    <a:pt x="1605" y="933"/>
                    <a:pt x="1052" y="1326"/>
                    <a:pt x="764" y="1379"/>
                  </a:cubicBezTo>
                  <a:cubicBezTo>
                    <a:pt x="476" y="1432"/>
                    <a:pt x="0" y="1264"/>
                    <a:pt x="37" y="1057"/>
                  </a:cubicBezTo>
                  <a:cubicBezTo>
                    <a:pt x="74" y="850"/>
                    <a:pt x="703" y="276"/>
                    <a:pt x="984" y="13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94040" y="2023920"/>
              <a:ext cx="1565280" cy="728640"/>
            </a:xfrm>
            <a:custGeom>
              <a:avLst/>
              <a:gdLst/>
              <a:ahLst/>
              <a:rect l="l" t="t" r="r" b="b"/>
              <a:pathLst>
                <a:path w="1309" h="609">
                  <a:moveTo>
                    <a:pt x="241" y="29"/>
                  </a:moveTo>
                  <a:cubicBezTo>
                    <a:pt x="431" y="0"/>
                    <a:pt x="1025" y="85"/>
                    <a:pt x="1167" y="152"/>
                  </a:cubicBezTo>
                  <a:cubicBezTo>
                    <a:pt x="1309" y="219"/>
                    <a:pt x="1222" y="360"/>
                    <a:pt x="1092" y="433"/>
                  </a:cubicBezTo>
                  <a:cubicBezTo>
                    <a:pt x="962" y="506"/>
                    <a:pt x="563" y="609"/>
                    <a:pt x="385" y="591"/>
                  </a:cubicBezTo>
                  <a:cubicBezTo>
                    <a:pt x="207" y="573"/>
                    <a:pt x="48" y="418"/>
                    <a:pt x="24" y="324"/>
                  </a:cubicBezTo>
                  <a:cubicBezTo>
                    <a:pt x="0" y="230"/>
                    <a:pt x="41" y="47"/>
                    <a:pt x="241" y="29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65320" y="1690560"/>
              <a:ext cx="1968480" cy="965160"/>
            </a:xfrm>
            <a:custGeom>
              <a:avLst/>
              <a:gdLst/>
              <a:ahLst/>
              <a:rect l="l" t="t" r="r" b="b"/>
              <a:pathLst>
                <a:path w="1646" h="807">
                  <a:moveTo>
                    <a:pt x="243" y="800"/>
                  </a:moveTo>
                  <a:cubicBezTo>
                    <a:pt x="486" y="793"/>
                    <a:pt x="1392" y="681"/>
                    <a:pt x="1519" y="560"/>
                  </a:cubicBezTo>
                  <a:cubicBezTo>
                    <a:pt x="1646" y="439"/>
                    <a:pt x="1211" y="148"/>
                    <a:pt x="1004" y="74"/>
                  </a:cubicBezTo>
                  <a:cubicBezTo>
                    <a:pt x="797" y="0"/>
                    <a:pt x="434" y="27"/>
                    <a:pt x="277" y="115"/>
                  </a:cubicBezTo>
                  <a:cubicBezTo>
                    <a:pt x="120" y="203"/>
                    <a:pt x="64" y="488"/>
                    <a:pt x="58" y="602"/>
                  </a:cubicBezTo>
                  <a:cubicBezTo>
                    <a:pt x="52" y="716"/>
                    <a:pt x="0" y="807"/>
                    <a:pt x="243" y="80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34040" y="2552760"/>
              <a:ext cx="644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000000"/>
                  </a:solidFill>
                  <a:latin typeface="Arial"/>
                </a:rPr>
                <a:t>Arriv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56040" y="1574640"/>
              <a:ext cx="687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000000"/>
                  </a:solidFill>
                  <a:latin typeface="Arial"/>
                </a:rPr>
                <a:t>Crèch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11360" y="1924200"/>
              <a:ext cx="671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000000"/>
                  </a:solidFill>
                  <a:latin typeface="Arial"/>
                </a:rPr>
                <a:t>Guar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84560" y="3616200"/>
              <a:ext cx="79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000000"/>
                  </a:solidFill>
                  <a:latin typeface="Arial"/>
                </a:rPr>
                <a:t>Incub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79280" y="2602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gure 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2187720" y="1089000"/>
            <a:ext cx="3778200" cy="3706920"/>
            <a:chOff x="2187720" y="1089000"/>
            <a:chExt cx="3778200" cy="3706920"/>
          </a:xfrm>
        </p:grpSpPr>
        <p:graphicFrame>
          <p:nvGraphicFramePr>
            <p:cNvPr id="82" name=""/>
            <p:cNvGraphicFramePr/>
            <p:nvPr/>
          </p:nvGraphicFramePr>
          <p:xfrm>
            <a:off x="2187720" y="1089000"/>
            <a:ext cx="3778200" cy="3706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87720" y="1089000"/>
                      <a:ext cx="3778200" cy="370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" name=""/>
            <p:cNvSpPr/>
            <p:nvPr/>
          </p:nvSpPr>
          <p:spPr>
            <a:xfrm>
              <a:off x="3043080" y="1347840"/>
              <a:ext cx="1586160" cy="2314440"/>
            </a:xfrm>
            <a:custGeom>
              <a:avLst/>
              <a:gdLst/>
              <a:ahLst/>
              <a:rect l="l" t="t" r="r" b="b"/>
              <a:pathLst>
                <a:path w="1262" h="1840">
                  <a:moveTo>
                    <a:pt x="20" y="671"/>
                  </a:moveTo>
                  <a:cubicBezTo>
                    <a:pt x="40" y="500"/>
                    <a:pt x="134" y="164"/>
                    <a:pt x="246" y="82"/>
                  </a:cubicBezTo>
                  <a:cubicBezTo>
                    <a:pt x="358" y="0"/>
                    <a:pt x="532" y="132"/>
                    <a:pt x="692" y="178"/>
                  </a:cubicBezTo>
                  <a:cubicBezTo>
                    <a:pt x="852" y="224"/>
                    <a:pt x="1150" y="110"/>
                    <a:pt x="1206" y="356"/>
                  </a:cubicBezTo>
                  <a:cubicBezTo>
                    <a:pt x="1262" y="602"/>
                    <a:pt x="1154" y="1464"/>
                    <a:pt x="1028" y="1652"/>
                  </a:cubicBezTo>
                  <a:cubicBezTo>
                    <a:pt x="902" y="1840"/>
                    <a:pt x="602" y="1577"/>
                    <a:pt x="452" y="1487"/>
                  </a:cubicBezTo>
                  <a:cubicBezTo>
                    <a:pt x="302" y="1397"/>
                    <a:pt x="201" y="1246"/>
                    <a:pt x="129" y="1110"/>
                  </a:cubicBezTo>
                  <a:cubicBezTo>
                    <a:pt x="57" y="974"/>
                    <a:pt x="0" y="842"/>
                    <a:pt x="20" y="67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33800" y="1201680"/>
              <a:ext cx="1289160" cy="2282760"/>
            </a:xfrm>
            <a:custGeom>
              <a:avLst/>
              <a:gdLst/>
              <a:ahLst/>
              <a:rect l="l" t="t" r="r" b="b"/>
              <a:pathLst>
                <a:path w="1025" h="1815">
                  <a:moveTo>
                    <a:pt x="314" y="191"/>
                  </a:moveTo>
                  <a:cubicBezTo>
                    <a:pt x="416" y="0"/>
                    <a:pt x="604" y="257"/>
                    <a:pt x="691" y="280"/>
                  </a:cubicBezTo>
                  <a:cubicBezTo>
                    <a:pt x="778" y="303"/>
                    <a:pt x="795" y="320"/>
                    <a:pt x="835" y="328"/>
                  </a:cubicBezTo>
                  <a:cubicBezTo>
                    <a:pt x="875" y="336"/>
                    <a:pt x="904" y="273"/>
                    <a:pt x="931" y="328"/>
                  </a:cubicBezTo>
                  <a:cubicBezTo>
                    <a:pt x="958" y="383"/>
                    <a:pt x="1025" y="431"/>
                    <a:pt x="1000" y="657"/>
                  </a:cubicBezTo>
                  <a:cubicBezTo>
                    <a:pt x="975" y="883"/>
                    <a:pt x="934" y="1557"/>
                    <a:pt x="780" y="1686"/>
                  </a:cubicBezTo>
                  <a:cubicBezTo>
                    <a:pt x="626" y="1815"/>
                    <a:pt x="156" y="1678"/>
                    <a:pt x="78" y="1429"/>
                  </a:cubicBezTo>
                  <a:cubicBezTo>
                    <a:pt x="0" y="1180"/>
                    <a:pt x="149" y="393"/>
                    <a:pt x="314" y="19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43280" y="1400040"/>
              <a:ext cx="517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45040" y="3122640"/>
              <a:ext cx="477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79280" y="2602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gure 5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052720" y="1089000"/>
            <a:ext cx="3778200" cy="3508560"/>
            <a:chOff x="2052720" y="1089000"/>
            <a:chExt cx="3778200" cy="3508560"/>
          </a:xfrm>
        </p:grpSpPr>
        <p:graphicFrame>
          <p:nvGraphicFramePr>
            <p:cNvPr id="90" name=""/>
            <p:cNvGraphicFramePr/>
            <p:nvPr/>
          </p:nvGraphicFramePr>
          <p:xfrm>
            <a:off x="2052720" y="1089000"/>
            <a:ext cx="3778200" cy="350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2720" y="1089000"/>
                      <a:ext cx="3778200" cy="350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3500280" y="1405080"/>
              <a:ext cx="1810080" cy="1068120"/>
            </a:xfrm>
            <a:custGeom>
              <a:avLst/>
              <a:gdLst/>
              <a:ahLst/>
              <a:rect l="l" t="t" r="r" b="b"/>
              <a:pathLst>
                <a:path w="1522" h="898">
                  <a:moveTo>
                    <a:pt x="371" y="345"/>
                  </a:moveTo>
                  <a:cubicBezTo>
                    <a:pt x="469" y="250"/>
                    <a:pt x="442" y="18"/>
                    <a:pt x="611" y="9"/>
                  </a:cubicBezTo>
                  <a:cubicBezTo>
                    <a:pt x="780" y="0"/>
                    <a:pt x="1250" y="201"/>
                    <a:pt x="1386" y="290"/>
                  </a:cubicBezTo>
                  <a:cubicBezTo>
                    <a:pt x="1522" y="379"/>
                    <a:pt x="1449" y="449"/>
                    <a:pt x="1427" y="544"/>
                  </a:cubicBezTo>
                  <a:cubicBezTo>
                    <a:pt x="1405" y="639"/>
                    <a:pt x="1452" y="820"/>
                    <a:pt x="1256" y="859"/>
                  </a:cubicBezTo>
                  <a:cubicBezTo>
                    <a:pt x="1060" y="898"/>
                    <a:pt x="454" y="824"/>
                    <a:pt x="248" y="777"/>
                  </a:cubicBezTo>
                  <a:cubicBezTo>
                    <a:pt x="42" y="730"/>
                    <a:pt x="0" y="650"/>
                    <a:pt x="21" y="578"/>
                  </a:cubicBezTo>
                  <a:cubicBezTo>
                    <a:pt x="42" y="506"/>
                    <a:pt x="275" y="451"/>
                    <a:pt x="371" y="345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33640" y="2295360"/>
              <a:ext cx="2735280" cy="1611360"/>
            </a:xfrm>
            <a:custGeom>
              <a:avLst/>
              <a:gdLst/>
              <a:ahLst/>
              <a:rect l="l" t="t" r="r" b="b"/>
              <a:pathLst>
                <a:path w="2298" h="1354">
                  <a:moveTo>
                    <a:pt x="222" y="220"/>
                  </a:moveTo>
                  <a:cubicBezTo>
                    <a:pt x="143" y="294"/>
                    <a:pt x="70" y="306"/>
                    <a:pt x="85" y="460"/>
                  </a:cubicBezTo>
                  <a:cubicBezTo>
                    <a:pt x="100" y="614"/>
                    <a:pt x="0" y="1017"/>
                    <a:pt x="311" y="1146"/>
                  </a:cubicBezTo>
                  <a:cubicBezTo>
                    <a:pt x="622" y="1275"/>
                    <a:pt x="1657" y="1354"/>
                    <a:pt x="1950" y="1235"/>
                  </a:cubicBezTo>
                  <a:cubicBezTo>
                    <a:pt x="2243" y="1116"/>
                    <a:pt x="2298" y="633"/>
                    <a:pt x="2067" y="433"/>
                  </a:cubicBezTo>
                  <a:cubicBezTo>
                    <a:pt x="1836" y="233"/>
                    <a:pt x="872" y="70"/>
                    <a:pt x="565" y="35"/>
                  </a:cubicBezTo>
                  <a:cubicBezTo>
                    <a:pt x="258" y="0"/>
                    <a:pt x="294" y="182"/>
                    <a:pt x="222" y="22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92360" y="1547640"/>
              <a:ext cx="540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000000"/>
                  </a:solidFill>
                  <a:latin typeface="Arial"/>
                </a:rPr>
                <a:t>Adul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84320" y="36543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000000"/>
                  </a:solidFill>
                  <a:latin typeface="Arial"/>
                </a:rPr>
                <a:t>Chick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79280" y="2602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gure 5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00:12:05Z</dcterms:created>
  <dc:creator>megan_tie</dc:creator>
  <dc:description/>
  <dc:language>en-US</dc:language>
  <cp:lastModifiedBy>megan_tie</cp:lastModifiedBy>
  <dcterms:modified xsi:type="dcterms:W3CDTF">2008-07-26T06:18:41Z</dcterms:modified>
  <cp:revision>17</cp:revision>
  <dc:subject/>
  <dc:title>Slide 1</dc:title>
</cp:coreProperties>
</file>