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93AB-7178-4F11-8B4C-E6646643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420AD-D1CC-42D2-B44B-76046EF7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2166-CBF5-47DE-9149-4EFBA01E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EE56-D598-42A5-8403-CC87FC69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D6D7-86A7-48CA-ABC1-FE529608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BF32-433F-4306-B518-9648712F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FF1A-C739-42C4-A98C-06014CAD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CD37-6B1B-4834-A623-48A5542D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BDE-EC48-497D-B489-D257A831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974F-BE1F-4AA5-B799-A1235B36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2B89-1F47-47D0-8E0D-2DC57FB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94B2-13A9-4603-B060-68C29535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23FE-CDFA-40C6-A0F6-64FF421B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2291-6D20-47EC-ACE3-33DA44B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E5F3-6A94-4FB8-A697-2066555E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756D-C810-4963-BBF7-CC78ACEC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8813-2C24-4590-973A-1BF810AE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2090-09C2-471E-9917-1396763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6702B-B54E-4F07-BFAF-7D938C33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0D71-296F-4633-B041-68115F63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4CA3-D8A6-4DDE-ABA8-88B1245E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644E-59DB-48CC-83DC-10AF0D94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C5E6-4027-4E06-A7E0-1DA6A7FC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BCDB-C2A5-4445-98EB-1981623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6B64-3CEE-4AF5-9CB5-3D23A92BFF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5276-8FD8-4281-BB06-E8D13F326A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rthur.Sale@utas.edu.a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list.sir.arizona.edu/es/index.php?action=show_detail_date;range=4w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Arthur.Sale@utas.edu.au" TargetMode="External"/><Relationship Id="rId2" Type="http://schemas.openxmlformats.org/officeDocument/2006/relationships/hyperlink" Target="mailto:lac@ecs.soton.ac.uk" TargetMode="External"/><Relationship Id="rId3" Type="http://schemas.openxmlformats.org/officeDocument/2006/relationships/hyperlink" Target="http://www.eprints.org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eprints.utas.edu.au/" TargetMode="External"/><Relationship Id="rId2" Type="http://schemas.openxmlformats.org/officeDocument/2006/relationships/hyperlink" Target="http://eprints.unimelb.edu.au/" TargetMode="External"/><Relationship Id="rId3" Type="http://schemas.openxmlformats.org/officeDocument/2006/relationships/hyperlink" Target="http://eprints.unimelb.edu.au/" TargetMode="External"/><Relationship Id="rId4" Type="http://schemas.openxmlformats.org/officeDocument/2006/relationships/hyperlink" Target="http://eprints.unimelb.edu.au/" TargetMode="External"/><Relationship Id="rId5" Type="http://schemas.openxmlformats.org/officeDocument/2006/relationships/hyperlink" Target="http://eprints.qut.edu.au/" TargetMode="External"/><Relationship Id="rId6" Type="http://schemas.openxmlformats.org/officeDocument/2006/relationships/hyperlink" Target="http://eprints.usq.edu.au/" TargetMode="External"/><Relationship Id="rId7" Type="http://schemas.openxmlformats.org/officeDocument/2006/relationships/hyperlink" Target="http://espace.lis.curtin.edu.au/" TargetMode="External"/><Relationship Id="rId8" Type="http://schemas.openxmlformats.org/officeDocument/2006/relationships/hyperlink" Target="http://eprints.vu.edu.au/" TargetMode="External"/><Relationship Id="rId9" Type="http://schemas.openxmlformats.org/officeDocument/2006/relationships/hyperlink" Target="http://eprints.jcu.edu.au/" TargetMode="External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dlist.sir.arizona.edu/" TargetMode="External"/><Relationship Id="rId2" Type="http://schemas.openxmlformats.org/officeDocument/2006/relationships/hyperlink" Target="http://eprints.otago.ac.nz/" TargetMode="External"/><Relationship Id="rId3" Type="http://schemas.openxmlformats.org/officeDocument/2006/relationships/hyperlink" Target="http://eprints.ecs.soton.ac.uk/" TargetMode="External"/><Relationship Id="rId4" Type="http://schemas.openxmlformats.org/officeDocument/2006/relationships/hyperlink" Target="http://cardrona.eprints.otago.ac.nz/" TargetMode="External"/><Relationship Id="rId5" Type="http://schemas.openxmlformats.org/officeDocument/2006/relationships/hyperlink" Target="http://serpent.eprints.org/" TargetMode="External"/><Relationship Id="rId6" Type="http://schemas.openxmlformats.org/officeDocument/2006/relationships/hyperlink" Target="http://serpent.eprints.org/" TargetMode="External"/><Relationship Id="rId7" Type="http://schemas.openxmlformats.org/officeDocument/2006/relationships/hyperlink" Target="http://serpent.eprints.org/" TargetMode="External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leven.comp.utas.edu.au/AuseAccess/" TargetMode="External"/><Relationship Id="rId2" Type="http://schemas.openxmlformats.org/officeDocument/2006/relationships/hyperlink" Target="http://leven.comp.utas.edu.au/AuseAccess/" TargetMode="External"/><Relationship Id="rId3" Type="http://schemas.openxmlformats.org/officeDocument/2006/relationships/hyperlink" Target="http://leven.comp.utas.edu.au/AuseAccess/" TargetMode="External"/><Relationship Id="rId4" Type="http://schemas.openxmlformats.org/officeDocument/2006/relationships/hyperlink" Target="http://www.utas.edu.au/copyright/eprints/search.html" TargetMode="External"/><Relationship Id="rId5" Type="http://schemas.openxmlformats.org/officeDocument/2006/relationships/hyperlink" Target="http://search.arrow.edu.au/apps/ArrowUI/" TargetMode="Externa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1253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e5e5ff"/>
                </a:solidFill>
                <a:latin typeface="Verdana"/>
              </a:rPr>
              <a:t>EPrints</a:t>
            </a:r>
            <a:endParaRPr b="1" lang="en-US" sz="96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sor Arthur S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Tasma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Arthur.Sale@utas.edu.au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at http://eprints.utas.edu.au/935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User satisfactio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ser-oriented statist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n downloads started on EPrints. DSpace copied EPrints’ implementations, and Fez has too. Others have yet to catch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ee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dlist.sir.arizona.edu/es/index.php?action=show_detail_date;range=4w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 This type of information greatly motivates research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Prints team in conjunction with UTas is working on interoperable repository statistics, so data can b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ederated across reposit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Sample screen dump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295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Open Acces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ptimized for Google harves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especially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Google Scho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us providing greater visibility for your research documents, and more cit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epositing an article, you can set the date when an embargo expires and the article automatically become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ublicly access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offers th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D/OA but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ature: Buttons to allow enquirers of an embargoed article to ask the author under fair use copyright for a cop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Sample capture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4221000"/>
            <a:ext cx="7277040" cy="1133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619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vanced technology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rints offer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lug-in techn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easier customization, import and export facilities, and user-developed exten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x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ata in standard XML formats is standard (eg BibTex, Dublin Core), as i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many sources (eg PubMed), especially complying with the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History modu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upport for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eservation data ex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Uploa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Prints upload interface has been optimized following a professional consultant’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sability stud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sult is a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st, easy uplo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acility that researchers and office staff can cope with. Training is minimal. The time taken is extremely low (&lt;5 minute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ry i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n http://demoprints3.eprints.or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Demoprints3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058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Upload 2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ustomiz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upload features to improve integrity and use built-in integr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rints offer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uto-comple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previously entered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Authority fi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n be created for authors, departments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complet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journal titles, ISSN, publish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ROMEO data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Webmaster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RSS feed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ail al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b Services 2.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dditional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generat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ublications list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ibliography management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High reliability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ow dow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Easy branding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custo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Verdana"/>
              </a:rPr>
              <a:t>Future features - Management</a:t>
            </a:r>
            <a:endParaRPr b="1" lang="en-US" sz="4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User interface control panel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all repository configurations that are currently performed by editing configuration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kins manag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or br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rowse Vie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spoke Search ed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lugin Manag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control non-co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alendar vie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endar screen to track all embargo and license expi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itoring and Visualisation of al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eposit and editorial activ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track backlogs and actively manage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World’s Best Practice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2760" y="1600200"/>
          <a:ext cx="69166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600200"/>
                    <a:ext cx="69166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12000" y="2565360"/>
            <a:ext cx="18190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Future features - Other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Process Workfl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anage the various sequences of actions that an eprint can undergo from creation to final deposit (and beyond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ve authoring, problem management, refereeing, copyright clearance, security clearance, IPR checking, metadata quality checks, e-journal and conference workflow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currently allows, but does not manage, process workfl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orkflow edit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construct ‘named’ workfl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Future features - Misc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rtual Colle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n individual eprint may represent a collection of other epri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collections, workshop proceed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eroperable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use of individual eprints, eprint collections (per user, per research group, per community) or whole reposi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b Services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ly in beta, awaiting debugging of the .NET SOAP inte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egration with Researcher’s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sitory is just another Network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‘</a:t>
            </a: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Time to Be Live’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Q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iversities must have a repository by year end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pr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repository should be live by July/August to allow for populating the resource over the next six months and developing portfol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How can you get a repository running by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31 Ju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n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Reasonable expenditure retrospectively claimable from ASHER gr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ommunity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ng to a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international commun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EPrints users (222 repositories at current count, 26% of all global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ustralian 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eprints (mailing l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eAccess (wik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eSearch (federated Google searc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t direct support from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ther EPrints us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For example UTas has interacted with Melbourne and QUT, and assisted Otago (NZ) and James Cook to get operational. Advice from peers is free and readily gi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Prints Services’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basis for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lation $A20,000; recurrent $A3550 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latio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ustomization $A29,000; recurrent $A5350 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consortial solutions, see for example the White Rose Consortium (POA) at http://eprints.whiterose.ac.uk/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outsourced solutions – $A64,000; recurrent $A11,300 pa. ‘No worri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s valid for two months from 4 May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ontact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presentation  with all links is available at http://eprints.utas.edu.au/935/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r: Arthur Sale, email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Arthur.Sale@utas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ampton EPrints queries: Les Carr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lac@ecs.soton.ac.u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rints Website and download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eprints.org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ustralian EPrints site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smania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eprints.utas.edu.a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bourne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eprints.unimelb.edu.au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T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eprints.qut.edu.a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Q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http://eprints.usq.edu.a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ti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http://espace.lis.curtin.edu.au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ctoria U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http://eprints.vu.edu.au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Cook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http://eprints.jcu.edu.au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Resources 1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ing sample EPrints repos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IST US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dlist.sir.arizona.ed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ago NZ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eprints.otago.ac.nz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ampton U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eprints.ecs.soton.ac.uk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drona Repository (a local community)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cardrona.eprints.otago.ac.nz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pent Project (marine image database, search for ‘piglet squid’)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serpent.eprints.org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lography http://ebank.eprints.org/144/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6610320" y="0"/>
            <a:ext cx="25336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Resources 2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eAccess wiki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leven.comp.utas.edu.au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/AuseAccess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eSearch (federated search on all existing Australian &amp; NZ repositories)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www.utas.edu.au/copyright/eprints/search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OW Discovery Service (federated search on a subset of Australian repositories)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search.arrow.edu.au/apps/ArrowUI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The En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26920" y="1800360"/>
            <a:ext cx="77248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ustralian installation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12760" y="1600200"/>
          <a:ext cx="691668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1600200"/>
                    <a:ext cx="69166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227640" y="3500280"/>
            <a:ext cx="146700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Basic EPrints fact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ree open sourc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by and supported by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iversity of Southampt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URLs at en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Prints Serv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vides commercial services as need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ir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major softwares to be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ly written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er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use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SQ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atabase, both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free open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asy install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asy bran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easy customiz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high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Software Timeline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1628640"/>
            <a:ext cx="7704000" cy="48960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6531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Reviews of v3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43588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milestone in the journey towards the ideal repository software.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ter Millington and William Nixon (2007) Ariadne Issue 50.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riadne.ac.uk/issue50/eprints-v3-rpt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rints [is] the best candidate for a self-configuring solution for institutions wanting to set up and host their own repository.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echnical Evaluation of Selected Repository Solutions</a:t>
            </a:r>
            <a:br>
              <a:rPr sz="2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s://eduforge.org/docman/view.php/131/1062/Repository%20Evaluation%20Document.pd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RQF Interoperability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ha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any years exper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teracting with the similar UK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search Assessment Exerc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A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D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investigated EPrints interaction capability and given it a tick. A few minor mods need to be made (eg special access for reviewers) as with all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ies with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R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H&amp;MR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can provide CVs for researchers, web presence, as well as useful RQF datasets. Se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irra.eprints.org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http://eprints.utas.edu.au/view/authors/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eader in repository features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has not stood still. It continues to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volve and be develop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has a record of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utting-edge innov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leading the open access repository software offer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rent version of EPrints (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v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nnounced in January 2007, and sets high standards which will be followed in due course by other soft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is designed for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open access reposit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t does not encompass all possible applications for digital repositori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New features 2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can feed PhD theses from the repository direct to Australasian Digital Theses (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AD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, and has been doing so for several years at Melbourne, Tasmania and James Cook. No other software offers this conveni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ints offers a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Request Epri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utton (ID/OA) for restricted items, which automatically sends an email from the viewer to the author. If the author chooses to email a copy (two clicks), it is legally covered under normal ‘fair use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22:37:46Z</dcterms:created>
  <dc:creator>Arthur Sale</dc:creator>
  <dc:description/>
  <dc:language>en-US</dc:language>
  <cp:lastModifiedBy>Arthur Sale</cp:lastModifiedBy>
  <dcterms:modified xsi:type="dcterms:W3CDTF">2007-05-01T06:51:30Z</dcterms:modified>
  <cp:revision>31</cp:revision>
  <dc:subject/>
  <dc:title>EPrints</dc:title>
</cp:coreProperties>
</file>