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3960336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520-70E5-479E-9FD9-A23A69D3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9240840"/>
            <a:ext cx="2916252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22893480"/>
            <a:ext cx="2916252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37A-4EC1-4E45-ADB7-276348E4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924084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924084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2289348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289348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0DF-1B1B-4D46-873A-7FF3403C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9240840"/>
            <a:ext cx="939024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9240840"/>
            <a:ext cx="939024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9240840"/>
            <a:ext cx="939024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22893480"/>
            <a:ext cx="939024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22893480"/>
            <a:ext cx="939024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2893480"/>
            <a:ext cx="939024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A73-9BE8-43FA-ADD8-15DF24C5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9240840"/>
            <a:ext cx="29162520" cy="261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FDA-9314-42F2-B5F3-003BF6FE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9240840"/>
            <a:ext cx="29162520" cy="261381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3CF-EAD8-43E5-BB93-CEA17E48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9240840"/>
            <a:ext cx="14231160" cy="261381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9240840"/>
            <a:ext cx="14231160" cy="261381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731-C35E-481C-B2F7-14C63691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939-5709-4382-8FDD-F6B992B9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1585800"/>
            <a:ext cx="2916252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EB4-8FF4-423D-A6DB-4D4B374A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924084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9240840"/>
            <a:ext cx="14231160" cy="261381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2289348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F7D-B582-4781-99D5-49E6530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9240840"/>
            <a:ext cx="14231160" cy="261381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924084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289348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777-26FA-48FD-8811-7A270D36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924084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9240840"/>
            <a:ext cx="1423116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22893480"/>
            <a:ext cx="29162520" cy="124678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4114800"/>
                <a:tab algn="l" pos="8229600"/>
              </a:tabLst>
            </a:pP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282-3C6D-423A-B295-B412CF0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1585800"/>
            <a:ext cx="2916252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0" lang="en-US" sz="19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9240840"/>
            <a:ext cx="29162520" cy="261381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rmAutofit/>
          </a:bodyPr>
          <a:p>
            <a:pPr marL="1542960" indent="-1542960"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lvl="1" marL="3343320" indent="-12859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lvl="2" marL="5143680" indent="-1028880"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lvl="3" marL="7201080" indent="-102888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lvl="4" marL="9258480" indent="-1028880">
              <a:spcBef>
                <a:spcPts val="3600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lvl="5" marL="9258480" indent="-1028880">
              <a:spcBef>
                <a:spcPts val="3600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lvl="6" marL="9258480" indent="-1028880">
              <a:spcBef>
                <a:spcPts val="3600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82296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36066240"/>
            <a:ext cx="7559640" cy="2749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Autofit/>
          </a:bodyPr>
          <a:lstStyle>
            <a:lvl1pPr indent="0">
              <a:buNone/>
              <a:tabLst>
                <a:tab algn="l" pos="0"/>
                <a:tab algn="l" pos="4114800"/>
                <a:tab algn="l" pos="8229600"/>
              </a:tabLst>
              <a:defRPr b="0" lang="en-US" sz="6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66240"/>
            <a:ext cx="10261800" cy="2749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Autofit/>
          </a:bodyPr>
          <a:lstStyle>
            <a:lvl1pPr indent="0" algn="ctr">
              <a:buNone/>
              <a:tabLst>
                <a:tab algn="l" pos="0"/>
                <a:tab algn="l" pos="4114800"/>
                <a:tab algn="l" pos="8229600"/>
              </a:tabLst>
              <a:defRPr b="0" lang="en-US" sz="6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36066240"/>
            <a:ext cx="7559640" cy="2749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t">
            <a:noAutofit/>
          </a:bodyPr>
          <a:lstStyle>
            <a:lvl1pPr indent="0" algn="r">
              <a:buNone/>
              <a:tabLst>
                <a:tab algn="l" pos="0"/>
                <a:tab algn="l" pos="4114800"/>
                <a:tab algn="l" pos="8229600"/>
              </a:tabLst>
              <a:defRPr b="0" lang="en-US" sz="6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114800"/>
                <a:tab algn="l" pos="8229600"/>
              </a:tabLst>
            </a:pPr>
            <a:fld id="{8BCA8F8C-444D-4B79-B456-6119ADCBE72F}" type="slidenum">
              <a:rPr b="0" lang="en-US" sz="6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7440" y="431640"/>
            <a:ext cx="22610880" cy="332280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920" bIns="205920" anchor="ctr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0" lang="en-AU" sz="11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AU" sz="11000" spc="-1" strike="noStrike">
                <a:solidFill>
                  <a:srgbClr val="000000"/>
                </a:solidFill>
                <a:latin typeface="Arial"/>
              </a:rPr>
              <a:t>ffects of reproductive condition </a:t>
            </a:r>
            <a:br>
              <a:rPr sz="11000"/>
            </a:br>
            <a:r>
              <a:rPr b="0" lang="en-AU" sz="11000" spc="-1" strike="noStrike">
                <a:solidFill>
                  <a:srgbClr val="000000"/>
                </a:solidFill>
                <a:latin typeface="Arial"/>
              </a:rPr>
              <a:t>on HPG-HPA axis interactio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53440" y="5256360"/>
            <a:ext cx="23475960" cy="6760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AU" sz="5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AU" sz="5500" spc="-1" strike="noStrike">
                <a:solidFill>
                  <a:srgbClr val="000000"/>
                </a:solidFill>
                <a:latin typeface="Arial"/>
              </a:rPr>
              <a:t>ackgroun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vertebrates, activation of the stress response (HPA axis) often results in the down regulation of processes not immediately necessary for that individual’s survival including reproduction (HPG axis)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(Dong et al. 2004, DeNardo and Sinervo 1994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urthermore, some species with only a short season in which to breed exhibit the ability to down regulate their stress response, so as to prevent the inhibition of reproduction (Wingfield et al. 1995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investigated in male blotched blue-tongue lizards, </a:t>
            </a:r>
            <a:r>
              <a:rPr b="0" i="1" lang="en-AU" sz="4000" spc="-1" strike="noStrike">
                <a:solidFill>
                  <a:srgbClr val="000000"/>
                </a:solidFill>
                <a:latin typeface="Arial"/>
              </a:rPr>
              <a:t>Tiliqua nigrolutea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, how the stress response simulated by an ACTH injection alters testosterone (T) and corticosterone (b) concentrations during the breeding season in spring, and reproductive quiescence in sum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97800" y="4032360"/>
            <a:ext cx="190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osemary Hohnen and Ashley Edwards, School of Zoology, U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12314160"/>
            <a:ext cx="3118032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AU" sz="55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AU" sz="5500" spc="-1" strike="noStrike">
                <a:solidFill>
                  <a:srgbClr val="000000"/>
                </a:solidFill>
                <a:latin typeface="Arial"/>
              </a:rPr>
              <a:t>ethod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dult male </a:t>
            </a:r>
            <a:r>
              <a:rPr b="0" i="1" lang="en-AU" sz="4000" spc="-1" strike="noStrike">
                <a:solidFill>
                  <a:srgbClr val="000000"/>
                </a:solidFill>
                <a:latin typeface="Arial"/>
              </a:rPr>
              <a:t>T. nigrolutea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(N=25) were blood sampled (0.5 ml) (T</a:t>
            </a:r>
            <a:r>
              <a:rPr b="0" lang="en-AU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), injected with 50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g synthetic ACTH and blood sampled 30 (T</a:t>
            </a:r>
            <a:r>
              <a:rPr b="0" lang="en-A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) and 60 (T</a:t>
            </a:r>
            <a:r>
              <a:rPr b="0" lang="en-A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) min later. Haematocrit, and plasma T and C were measured at all three times, and blood glucose was measured at T</a:t>
            </a:r>
            <a:r>
              <a:rPr b="0" lang="en-AU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A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7640" y="5184720"/>
            <a:ext cx="7201080" cy="6769080"/>
            <a:chOff x="647640" y="5184720"/>
            <a:chExt cx="7201080" cy="6769080"/>
          </a:xfrm>
        </p:grpSpPr>
        <p:sp>
          <p:nvSpPr>
            <p:cNvPr id="46" name=""/>
            <p:cNvSpPr/>
            <p:nvPr/>
          </p:nvSpPr>
          <p:spPr>
            <a:xfrm>
              <a:off x="647640" y="5184720"/>
              <a:ext cx="7201080" cy="6769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888840" y="5710680"/>
              <a:ext cx="6657840" cy="5716800"/>
              <a:chOff x="888840" y="5710680"/>
              <a:chExt cx="6657840" cy="5716800"/>
            </a:xfrm>
          </p:grpSpPr>
          <p:pic>
            <p:nvPicPr>
              <p:cNvPr id="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88840" y="5710680"/>
                <a:ext cx="6657840" cy="571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9" name=""/>
              <p:cNvSpPr/>
              <p:nvPr/>
            </p:nvSpPr>
            <p:spPr>
              <a:xfrm flipH="1">
                <a:off x="3309840" y="9019800"/>
                <a:ext cx="1979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2978640" y="9351000"/>
                <a:ext cx="2310840" cy="331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>
                <a:off x="3034800" y="9813600"/>
                <a:ext cx="1870560" cy="19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1332000" y="25765200"/>
            <a:ext cx="673236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Mean (±SE) haematocrit in male </a:t>
            </a:r>
            <a:r>
              <a:rPr b="1" i="1" lang="en-AU" sz="3000" spc="-1" strike="noStrike">
                <a:solidFill>
                  <a:srgbClr val="ffffff"/>
                </a:solidFill>
                <a:latin typeface="Arial"/>
              </a:rPr>
              <a:t>Tiliqua nigrolutea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 (N=25) before (T</a:t>
            </a:r>
            <a:r>
              <a:rPr b="1" lang="en-AU" sz="3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), 30 min (T</a:t>
            </a:r>
            <a:r>
              <a:rPr b="1" lang="en-A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), and 1 hr (T</a:t>
            </a:r>
            <a:r>
              <a:rPr b="1" lang="en-AU" sz="3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) after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ACTH injection during spring breeding (black) and summer quiescence (whit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000" y="31540320"/>
            <a:ext cx="30819960" cy="535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AU" sz="55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AU" sz="5500" spc="-1" strike="noStrike">
                <a:solidFill>
                  <a:srgbClr val="000000"/>
                </a:solidFill>
                <a:latin typeface="Arial"/>
              </a:rPr>
              <a:t>iscuss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crease in B and blood glucose levels following ACTH injection support the role of the HPA axis in facilitating a response to stress, acting to mobilise energy reser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4800"/>
                <a:tab algn="l" pos="8229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ecrease in plasma T in response to activation of the HPA axis suggests ACTH suppresses, directly or indirectly, concentrations of T, a critical reproductive hormone, in both spring breeding and summer quiesc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4800"/>
                <a:tab algn="l" pos="8229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T decrease and C increase evident in both seasons suggests seasonal suppression of the HPA axis does not occur in this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489440" y="15338520"/>
            <a:ext cx="7273800" cy="5311440"/>
          </a:xfrm>
          <a:prstGeom prst="rect">
            <a:avLst/>
          </a:prstGeom>
          <a:solidFill>
            <a:srgbClr val="6d6d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14800"/>
                <a:tab algn="l" pos="82296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Plasma corticosterone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oncentrations of B significantly increased between each sample time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Arial"/>
              </a:rPr>
              <a:t>(1,24)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= 518.18,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&lt; 0.0001),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but increased differently between reproductive con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4800"/>
                <a:tab algn="l" pos="8229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69440" y="15338520"/>
            <a:ext cx="7561080" cy="5395320"/>
          </a:xfrm>
          <a:prstGeom prst="rect">
            <a:avLst/>
          </a:prstGeom>
          <a:solidFill>
            <a:srgbClr val="80008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14800"/>
                <a:tab algn="l" pos="82296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Plasma testoster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 concentration decreased significantly between by T</a:t>
            </a:r>
            <a:r>
              <a:rPr b="0" lang="en-A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Arial"/>
              </a:rPr>
              <a:t>(1,24)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= 9.54,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&lt; 0.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 concentrations</a:t>
            </a:r>
            <a:r>
              <a:rPr b="0" lang="en-A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re significantly lower in spring breeding than summer quiescence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Arial"/>
              </a:rPr>
              <a:t>(1,24)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= 50.98,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&lt; 0.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4800"/>
                <a:tab algn="l" pos="82296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15122520"/>
            <a:ext cx="30819600" cy="59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3640" y="15409800"/>
            <a:ext cx="7416720" cy="481752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14800"/>
                <a:tab algn="l" pos="8229600"/>
              </a:tabLst>
            </a:pPr>
            <a:r>
              <a:rPr b="1" lang="en-AU" sz="55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AU" sz="5500" spc="-1" strike="noStrike">
                <a:solidFill>
                  <a:srgbClr val="000000"/>
                </a:solidFill>
                <a:latin typeface="Arial"/>
              </a:rPr>
              <a:t>esult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4800"/>
                <a:tab algn="l" pos="82296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4800"/>
                <a:tab algn="l" pos="82296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Haematocr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No change with sample period (individuals did not become haemodilu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92000" y="21458160"/>
            <a:ext cx="30786480" cy="9375840"/>
            <a:chOff x="792000" y="21458160"/>
            <a:chExt cx="30786480" cy="9375840"/>
          </a:xfrm>
        </p:grpSpPr>
        <p:grpSp>
          <p:nvGrpSpPr>
            <p:cNvPr id="59" name=""/>
            <p:cNvGrpSpPr/>
            <p:nvPr/>
          </p:nvGrpSpPr>
          <p:grpSpPr>
            <a:xfrm>
              <a:off x="24161760" y="21458160"/>
              <a:ext cx="7416720" cy="9361440"/>
              <a:chOff x="24161760" y="21458160"/>
              <a:chExt cx="7416720" cy="9361440"/>
            </a:xfrm>
          </p:grpSpPr>
          <p:sp>
            <p:nvSpPr>
              <p:cNvPr id="60" name=""/>
              <p:cNvSpPr/>
              <p:nvPr/>
            </p:nvSpPr>
            <p:spPr>
              <a:xfrm>
                <a:off x="24161760" y="21458160"/>
                <a:ext cx="7416720" cy="93614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796440" y="21836160"/>
                <a:ext cx="6169320" cy="5418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4522120" y="27578160"/>
                <a:ext cx="6781680" cy="2961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114800"/>
                    <a:tab algn="l" pos="8229600"/>
                  </a:tabLst>
                </a:pP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Mean (± SE) glucose (mmol.L</a:t>
                </a:r>
                <a:r>
                  <a:rPr b="1" lang="en-AU" sz="3000" spc="-1" strike="noStrike" baseline="30000">
                    <a:solidFill>
                      <a:srgbClr val="ffffff"/>
                    </a:solidFill>
                    <a:latin typeface="Arial"/>
                  </a:rPr>
                  <a:t>-1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in male </a:t>
                </a:r>
                <a:r>
                  <a:rPr b="1" i="1" lang="en-AU" sz="3000" spc="-1" strike="noStrike">
                    <a:solidFill>
                      <a:srgbClr val="ffffff"/>
                    </a:solidFill>
                    <a:latin typeface="Arial"/>
                  </a:rPr>
                  <a:t>Tiliqua nigrolutea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 (N=25) before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and 30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and 60 min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after ACTH injection during spring breeding (black) and summer quiescence (white</a:t>
                </a:r>
                <a:r>
                  <a:rPr b="0" lang="en-AU" sz="3000" spc="-1" strike="noStrike">
                    <a:solidFill>
                      <a:srgbClr val="ffffff"/>
                    </a:solidFill>
                    <a:latin typeface="Arial"/>
                  </a:rPr>
                  <a:t>).</a:t>
                </a:r>
                <a:r>
                  <a:rPr b="1" lang="en-AU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6455960" y="21458160"/>
              <a:ext cx="7345440" cy="9361440"/>
              <a:chOff x="16455960" y="21458160"/>
              <a:chExt cx="7345440" cy="9361440"/>
            </a:xfrm>
          </p:grpSpPr>
          <p:sp>
            <p:nvSpPr>
              <p:cNvPr id="64" name=""/>
              <p:cNvSpPr/>
              <p:nvPr/>
            </p:nvSpPr>
            <p:spPr>
              <a:xfrm>
                <a:off x="16455960" y="21458160"/>
                <a:ext cx="7345440" cy="936144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92560" y="21967920"/>
                <a:ext cx="6603840" cy="5306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16744680" y="27632160"/>
                <a:ext cx="6788160" cy="28980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4114800"/>
                    <a:tab algn="l" pos="8229600"/>
                  </a:tabLst>
                </a:pP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Mean (± SE) corticosterone (ng.ml</a:t>
                </a:r>
                <a:r>
                  <a:rPr b="1" lang="en-AU" sz="3000" spc="-1" strike="noStrike" baseline="30000">
                    <a:solidFill>
                      <a:srgbClr val="ffffff"/>
                    </a:solidFill>
                    <a:latin typeface="Arial"/>
                  </a:rPr>
                  <a:t>-1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in male </a:t>
                </a:r>
                <a:r>
                  <a:rPr b="1" i="1" lang="en-AU" sz="3000" spc="-1" strike="noStrike">
                    <a:solidFill>
                      <a:srgbClr val="ffffff"/>
                    </a:solidFill>
                    <a:latin typeface="Arial"/>
                  </a:rPr>
                  <a:t>Tiliqua nigrolutea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 N=25 before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and 30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and 60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min after ACTH injection during spring breeding (black) and summer quiescence (white).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8609040" y="21458160"/>
              <a:ext cx="7488000" cy="9361440"/>
              <a:chOff x="8609040" y="21458160"/>
              <a:chExt cx="7488000" cy="9361440"/>
            </a:xfrm>
          </p:grpSpPr>
          <p:sp>
            <p:nvSpPr>
              <p:cNvPr id="68" name=""/>
              <p:cNvSpPr/>
              <p:nvPr/>
            </p:nvSpPr>
            <p:spPr>
              <a:xfrm>
                <a:off x="8609040" y="21458160"/>
                <a:ext cx="7488000" cy="93614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158040" y="21837600"/>
                <a:ext cx="6364440" cy="5381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8823240" y="27650880"/>
                <a:ext cx="6937200" cy="28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4114800"/>
                    <a:tab algn="l" pos="8229600"/>
                  </a:tabLst>
                </a:pP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Mean (± SE) testosterone (ng.ml</a:t>
                </a:r>
                <a:r>
                  <a:rPr b="1" lang="en-AU" sz="3000" spc="-1" strike="noStrike" baseline="30000">
                    <a:solidFill>
                      <a:srgbClr val="ffffff"/>
                    </a:solidFill>
                    <a:latin typeface="Arial"/>
                  </a:rPr>
                  <a:t>-1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in male </a:t>
                </a:r>
                <a:r>
                  <a:rPr b="1" i="1" lang="en-AU" sz="3000" spc="-1" strike="noStrike">
                    <a:solidFill>
                      <a:srgbClr val="ffffff"/>
                    </a:solidFill>
                    <a:latin typeface="Arial"/>
                  </a:rPr>
                  <a:t>Tiliqua nigrolutea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 (N=25), before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and 30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and 60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min after ACTH injection during spring breeding (black) and summer quiescence (white).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92000" y="21458160"/>
              <a:ext cx="7454880" cy="9375840"/>
              <a:chOff x="792000" y="21458160"/>
              <a:chExt cx="7454880" cy="9375840"/>
            </a:xfrm>
          </p:grpSpPr>
          <p:sp>
            <p:nvSpPr>
              <p:cNvPr id="72" name=""/>
              <p:cNvSpPr/>
              <p:nvPr/>
            </p:nvSpPr>
            <p:spPr>
              <a:xfrm>
                <a:off x="792000" y="21458160"/>
                <a:ext cx="7454880" cy="9375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114800"/>
                    <a:tab algn="l" pos="8229600"/>
                  </a:tabLst>
                </a:pPr>
                <a:endParaRPr b="0" lang="en-US" sz="8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114800"/>
                    <a:tab algn="l" pos="8229600"/>
                  </a:tabLst>
                </a:pPr>
                <a:endParaRPr b="0" lang="en-US" sz="8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322280" y="21825000"/>
                <a:ext cx="6318360" cy="5394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047600" y="27650880"/>
                <a:ext cx="6983280" cy="29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4114800"/>
                    <a:tab algn="l" pos="8229600"/>
                  </a:tabLst>
                </a:pP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Mean (±SE) haematocrit in male </a:t>
                </a:r>
                <a:r>
                  <a:rPr b="1" i="1" lang="en-AU" sz="3000" spc="-1" strike="noStrike">
                    <a:solidFill>
                      <a:srgbClr val="ffffff"/>
                    </a:solidFill>
                    <a:latin typeface="Arial"/>
                  </a:rPr>
                  <a:t>Tiliqua nigrolutea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 (N=25) before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, 30 min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, and 1 hr (T</a:t>
                </a:r>
                <a:r>
                  <a:rPr b="1" lang="en-AU" sz="30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) after</a:t>
                </a:r>
                <a:r>
                  <a:rPr b="0" lang="en-AU" sz="3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AU" sz="3000" spc="-1" strike="noStrike">
                    <a:solidFill>
                      <a:srgbClr val="ffffff"/>
                    </a:solidFill>
                    <a:latin typeface="Arial"/>
                  </a:rPr>
                  <a:t>ACTH injection during spring breeding (black) and summer quiescence (white).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6642880" y="720720"/>
            <a:ext cx="4643640" cy="3232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3097080" y="1297080"/>
            <a:ext cx="2859120" cy="28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431640" y="936720"/>
            <a:ext cx="2648160" cy="35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672000" y="37349280"/>
            <a:ext cx="263538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1" lang="en-AU" sz="2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Nardo, D. F. &amp; Sinervo, B. (1994) Effects of corticosterone on activity and home-range size of free-ranging male lizards.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Hormones and Behavior,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28,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53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g, Q., Salva, A., Sottas, C. M., Niu, E., Holmes, M. &amp; Hardy, M. P. (2004) Rapid glucocorticoid mediation of suppressed testosterone biosynthesis in male mice subjected to immobilization stress.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Journal of Andrology,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25,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973-98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114800"/>
                <a:tab algn="l" pos="8229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ngfield, J. C., O'Reilly, K. M. &amp; Astheimer, L. (1995) Modulation of the adrenocortical responses to acute stress in arctic birds: a possible ecological basis.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Integrative and Comparative Biology,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5,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285-2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114800"/>
                <a:tab algn="l" pos="8229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720" y="9001080"/>
            <a:ext cx="792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2000" y="9577440"/>
            <a:ext cx="792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50520" y="15338520"/>
            <a:ext cx="7272360" cy="4939920"/>
          </a:xfrm>
          <a:prstGeom prst="rect">
            <a:avLst/>
          </a:prstGeom>
          <a:solidFill>
            <a:srgbClr val="0000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14800"/>
                <a:tab algn="l" pos="82296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Blood 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14800"/>
                <a:tab algn="l" pos="82296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ignificant increase from T1 to T3 in blood glucose levels in response to ACTH injection during both spring breeding and summer quiescence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Arial"/>
              </a:rPr>
              <a:t>(1,25)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 = 19.45, </a:t>
            </a:r>
            <a:r>
              <a:rPr b="0" i="1" lang="en-AU" sz="3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= 0.000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4114800"/>
                <a:tab algn="l" pos="8229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5:14:11Z</dcterms:created>
  <dc:creator>School of Zoology</dc:creator>
  <dc:description/>
  <dc:language>en-US</dc:language>
  <cp:lastModifiedBy>Ashley</cp:lastModifiedBy>
  <dcterms:modified xsi:type="dcterms:W3CDTF">2009-11-18T06:04:27Z</dcterms:modified>
  <cp:revision>47</cp:revision>
  <dc:subject/>
  <dc:title>Effects of social status and season on HPG-HPA axis interaction</dc:title>
</cp:coreProperties>
</file>